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FCB-58FB-436A-94B1-757E8490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D05-3B9A-48A2-BD4E-19836B48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32D-F0DE-4073-A1F8-1576F488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237-FB84-47C8-AEF7-2968D0B9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5B0-3C08-43A9-A457-B4551BAA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283-1E52-4991-A158-B170D818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813-AE8D-41C6-975B-E9453C77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4D8-59B4-4B2D-AB34-BDEA9AA2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21A-C2DB-4B77-9B5F-38E25460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DE1-FECC-4EDB-B4C0-E48A409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39A-5832-4F87-82B2-4C251391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B57-F15E-4B38-8869-4402798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7CFD-C785-4E9E-99BF-5FF7276C7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dimensional HYCOM model implemented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routine call from HWRFX solv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ed in HWRFX (parent domain only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tests and bug fixes are underway using a uniform idealized ocean profile for initializ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1-D ocean model in moving nest (?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hoice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polate SST from parent domain to moving ne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polate 3-D ocean fields to moving nest and run ocean mod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3 km or 1 km resolution necessary for the ocean model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debugging using idealized initializ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 the ocean model initializ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WRFX Ocean Model Update – G. Halliwe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304920" y="838080"/>
            <a:ext cx="85341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multiple products over multiple stor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-based procedures now used by HW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hetic profiles derived from satellite altimetry (G. Gon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GODAE data-assimilative ocean hindcasts (e.g. the U. S. Navy HYCOM system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bserving System Simulation Experiments (OSSEs) to evaluate observational strategies for improving initial ocean fiel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52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cean Model Initia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0:39:09Z</dcterms:created>
  <dc:creator>Lynn K. Shay</dc:creator>
  <dc:description>ocean heat content, upwelling, mixing, sea surface temperature, altimetry, shear</dc:description>
  <dc:language>en-US</dc:language>
  <cp:lastModifiedBy>gopal</cp:lastModifiedBy>
  <dcterms:modified xsi:type="dcterms:W3CDTF">2009-09-16T22:20:10Z</dcterms:modified>
  <cp:revision>196</cp:revision>
  <dc:subject>Section_5_MSC106</dc:subject>
  <dc:title>Oceanic Impacts of Hurricane Intensity</dc:title>
</cp:coreProperties>
</file>